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091-7E84-4624-A609-3E442881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C87-A42D-49D1-8A6D-4F16A3C3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47D34-46AE-450B-BC70-D8B17D90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71A60-5E89-43AA-9C53-602297E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6BBBB-7B89-4EAB-81A2-AB3AD782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EE9BC-E879-4D21-96A0-9E7F70E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256E9-6171-4389-9AF0-0BFA7E6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0B666-263F-4E9F-BE67-43DB23A0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A60E8-5006-4DB7-89E0-79FB1F52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9353C-39FB-4A16-B5A3-81212952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78F03-6CB2-4989-9196-E5082975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923AB-4A89-42A4-8EBF-33D431C8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2BD-D47F-4CE1-9DAA-35147DFB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4F076-CF7E-46E4-8802-0ECF901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F9324-6EAE-42E9-A5F0-0A979F59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EC6E8-E689-4EDC-A678-CC750F2F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DB22D-B20F-4324-9FC5-A7C7F54F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CF8B5-3BAB-4CC3-849D-4E7EAA3F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334A5-181E-4DA9-B934-1FCB883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254D6-FAA7-42AF-AA57-00562C6E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BFDC0-1351-4AF1-8581-0898276B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7E610-AADC-4CCD-8E5B-FEEBA9CE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F9488-D1E6-4FDA-B8A7-5791FC09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87C-5727-44B5-87D8-F222E295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D8934-37D9-40B8-9381-6B8EB6FB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E11F-7507-4DB4-BC5A-48A29955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7F516-CB7E-4F27-96CB-48BDCC06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5DA51-54F0-41E4-B909-297D2728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64FA5-8B51-4CDD-A1D9-FDDE1CF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4391-296C-4664-BE20-B46FCAB3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6F877-BCC9-464E-95BE-A53875B9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CBA07-8DEC-45BC-9FE5-22D2759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294D-4BCF-4C10-9D01-2EF05A9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9D1FE-DE14-4529-94EE-1C3FC83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A1F5-542E-4985-BE9B-52FD78A8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AA75E-C8B5-49DE-93CC-BF61EA64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88916-A020-4DF6-B36F-92E0DB3F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31420-CF49-4DB0-A919-43F4611F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36743-15E1-427A-A292-1CEE85BF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AC441-CBB7-4E0B-A482-3A0415C2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E99D3-BD75-440C-80EE-69F29C8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BFF24-72DD-479D-BBBE-F7F232F3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C9812-9D89-4BDD-BEF0-1BC4B100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1CA0B-44D7-4F44-9AD6-311F0A79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3BDF2-E91A-491E-842F-69C05500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BB81-AF86-4D1A-ABF2-B6339EA2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B2BB5-33EB-45FD-8748-252B4DC6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5EE26-136C-4B30-A8C7-A9BF2932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69A74-08A0-49B0-865C-A943A699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5D623-2B5F-4673-B8BE-830030FD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C82B7-A390-470E-8161-3F1B126C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3FA2F-0A5C-4C5A-A4B0-DD9F48F4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31029-04C8-4F9F-8CC8-40C5D478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07244-AE95-453E-8846-114B5184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014DA-2009-469D-95BD-1902A949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86E6A-C18E-4EA7-B183-D2264982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2E17-9EED-463A-91ED-02D2A746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DB765-ECD2-44CD-B6BB-2C842D7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CC990-98D3-4C64-BD92-F141336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5CD40-AD10-4849-8A7C-AEDC7E58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F3919-0560-4F8E-A2F7-A413FC6C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9ED3E-3294-426F-83C8-8003FD12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CD9B4-828D-450C-8059-4BD43B3D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0D940-A2D2-4947-B608-856EBA5C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096A0-0548-4966-8728-43538B15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C63C5-95AC-46F5-91D5-D2A10B1D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915FE-D914-4573-A845-9863CC2F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2B4C-C1FD-4D02-BDD9-61DBE7A1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9C4A9-B50C-48F6-85AB-02C3CBD3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878AC-2FB2-4B8C-A000-CC681B14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60E29-A774-49FE-B4A5-DEDA453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6A9F2-01D3-4FA4-B120-15D6F06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5AAEE-4957-4B55-9CCB-BD02B94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7619A-4CCA-475E-AFD4-5B7B0913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AF53A-5E6C-4434-848F-F23F196F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51938-C860-4A0E-828E-3E926641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861AD-A9FE-4E3D-A013-D3C3B30C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F1C2E-0D82-48C9-8CE2-BD67EA80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307C-3B31-4042-8878-DEBBD77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BA07D-E892-4298-8DDB-AECCF9F3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465CA-5E05-4DF4-A91B-16462CC1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D2105-7FD6-4CB7-9983-CA9A5123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02E9E-573F-4A29-A26F-CD9CB1BC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50396-A5FE-4A5F-B1A1-CDD61957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B9FEB-DBAC-49E1-81E6-9657140A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A43E8-73FB-4F3D-8C2A-FA05A16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8E05A-7764-4DE9-90F9-CC9544D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65AAC-8157-488A-8631-D12D183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EEC31-D8D8-4C8F-8EDC-09E0F89B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4DA0-6F0C-4EB0-B85F-490CB34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7614E-06B7-40E5-88A9-D620C9AB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D5C7C-483E-4330-A65E-31A845DF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90A3B-440B-4012-BE05-C55C9C5A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A5B9B-E64E-4623-8D61-711F357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8BAC6-9E99-4050-A13D-5AE77C5A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3B2BD-0033-43F9-988E-CA27ED43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D642C-80D2-4946-BAB6-54245D47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B0A8F-E6C3-4839-AC7B-48E6951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2CA44-B32F-468F-BB7B-1B7FCF01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C7B6A-EF88-4099-B55C-D798C4C3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991C-410E-45EE-9EF7-F90D997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D61F7-3E6B-4DC5-9A61-F8C18F3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A8A72-E98B-48C7-BE85-F3B1D292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0401F0-1A9F-4884-AAAA-7407EA05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BA358-F041-4894-9A97-604A2062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89A92-196F-460D-8AB6-4C26D304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F7C75-7432-4433-803D-BD9242CA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5B8A87-1B7A-441E-818E-793D5144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55DD1-132D-4822-BCBE-613D51FC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314EC-98DE-4DD8-AA0B-B0DF2ABD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29FCA3-85FB-4CF1-B1F1-68F00479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86F-A780-40A1-8284-0737415D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D130-6951-4B2C-8167-4A466D6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80BD8-2053-4136-A509-621F52E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ED4F1-3E8B-41D0-ACDC-3EC2901C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28123-BFD3-4C39-AE63-C198FC1E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6E686-5687-4A75-9294-06F73E31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355C5-7C66-4D5A-A2F6-B1CEF54E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46946-7F16-4D1A-AD48-B17F9C77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C67633-AB0F-4BFE-B0DB-709760A7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82C9E-5BF2-4127-BCA7-47DF2F56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EF197-FC4E-47D9-A035-B6407EBE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08B76-A92E-4A52-8D37-AFE37A8D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877D-CAC0-4E9C-91F8-02BDF46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47759-B6DD-4470-A779-371FAD6D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B415D-84A3-4B95-A43C-C728187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F85F8-7CC6-464F-851B-44888728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5AD3F-1A3B-4D7E-BE70-7AE0DE37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2F012-2415-4999-B660-95174A8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36242-6D2B-49CA-A23A-F7258BEB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C42BC-5BEF-4DA5-B98E-EA9CFBE4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BCC1E-9B2A-4075-8412-B120B29C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FDCA1-6F4C-4AD2-B4B8-EEA813B4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BB2E7-F77B-4E12-8537-CA85364B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B225-B864-4CA4-812B-C118DBE5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8BD93C-7B76-4C4A-AD90-A24A0E61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CACFF-E616-484C-BE4D-363C9875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68A02-7BCF-456F-A898-DF62A085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31629-BB14-49DD-B555-9616C36A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B70D7C-55BA-4657-A376-8F916EF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8E5462-F3BA-452F-9C7C-6C609AC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37D30-30DC-495F-9515-4E898F90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AD3943-0143-4F93-9AF8-E0B31DFE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90C77-0E01-4882-96B1-80D35092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98C148-912C-4C0A-A4FC-7E4C7D51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621-9538-431E-A42F-1A5D19B9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B016A-478B-481C-A7C5-E105C7E0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53E4F-15FE-47A8-9181-37BA95E7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97C09-7A52-439B-A6DF-55245C87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C7585-C861-49A8-B188-C46CEDDE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797ED-EA60-4C94-B2E0-7094854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A5C158-1705-41B0-B528-771CEAE5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363743-91D1-4B9C-87E5-C68B86CE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231DA3-1C9D-41C5-A1A0-7D78FC0B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03EE4-77B7-45D4-AB16-76175C78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BE741-AF08-4BF2-A726-15B5EC4F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D333-ECD2-4CD4-BC54-5BDDF80F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66891-56DC-4323-B115-507E4CB4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848B9-7AB7-418D-B93C-4B727269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E2253-F767-4016-B9E1-21059A3B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77EA0-D095-419B-8074-73A8F9F3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7921D-55DF-4DFF-9061-9B2D5FF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78421-2829-4FB0-9A38-A1B7546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185FEF-D55A-4BC3-9B88-A0BEA05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0E697E-3DC8-49D9-A467-14703E6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159DF-C22C-4F95-81B8-E2B83B7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DB9C1-943A-4A8C-88AB-2FC85AA0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58FE-8C0C-48BF-A375-930EEA97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D794B-6F65-4F17-8F97-CEC3D8C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B73B3-95E0-4E0C-B84D-5C635B3F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ECBC1-873D-4AD5-BE44-E3E2C001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3369-A641-46ED-98F6-BEB19F65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6E22-6FA0-4AF0-A412-9D3B1664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4B54-389E-4157-86CF-AA6B012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E9FB-AF27-4B77-A53E-FD8B952D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4A0-F431-477B-A578-7CFFA65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89D3-4852-41B6-A630-E1C3025C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2762-ADF4-4392-8CBC-182B6AA2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8119-3BBB-4D41-B053-D3278D7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46CC-2CE9-44C8-B17E-863770D8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CF8B-0EBF-406A-ADC5-2E67816E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FA87-FFFA-4D65-A838-378ABE32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2F7A-6337-482B-B3BB-2A1BC67B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5903-ADAC-482E-89CF-1762D522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1645-9901-4B34-B1A0-C7DFF3F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E4D3-2A5B-4505-8267-5E39DABC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AD4-A4DF-4F88-A8E4-826FBA8E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0731-152F-4309-8E53-2F193E0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CFA99-FD4F-4E92-B111-8F45EA6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F254-A785-47CD-932E-8EAD2707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EE0C-7F7B-4CDA-8A83-DDDDB4E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C193-BE42-4057-85E4-69AC2E9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F3FD-E641-4480-A519-AA8A1F2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50A4-3DA3-463A-BCAB-B6EE39CC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964E-C1FA-4F1E-ADCA-C4AA7F64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47FB3-E3D8-46A6-93A3-CE6458EF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EBAD-75F4-4708-8F00-0F8A35D8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70B-5E71-4812-B88D-F048953B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F62B-953B-40AE-A4DE-65BD879D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45F8-5865-4B78-951D-12E937BE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A7269-63D8-4BF0-A5AA-8E59D0CC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FDDF-AB7B-41DA-B52D-8F5A9305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9AAE-2A4D-403B-9475-5AE0ACA7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F0ACF-C0D6-4108-91AB-50A708F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4722-004B-4D85-8721-7B8E299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31DB-AFE3-4F9C-9DD5-F47EC5DC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4503-6410-443C-9677-5330496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7F28-E659-4F33-B694-2E06B79E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1A8-CD2E-4A61-82EF-B9B6D658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C88DC-FF14-40BE-ABDD-0DC433E5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7B6B7-E540-4A3D-8F22-ED7A18FB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E49D2-0E52-45C2-AF47-183CE061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18D0-8635-4929-A07B-40C52B76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CBCD-070D-4AE0-8D20-5A5C8202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656B5-49C8-4A36-B13F-A18FFA9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9B95-33A1-4DF4-A0D6-F32BF25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19E5-E30E-4F55-B1B4-BF26A11B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04A12-51F9-47BE-9DE7-435947D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BCF3-D47F-42D4-9298-4EB0F68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448-7461-4B42-839D-8BACC67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ECA0-5F4A-4CCA-8FF8-414F498E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48895-6CAE-4BC1-95DA-3C3F4454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68124-822B-4986-A5D8-8EC670F0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A9BBE-AFCB-4FC7-A86C-982D2ECC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3829-B6D5-48D8-877E-E1030AB2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48E9-7D76-4B7E-ABA9-71A713AB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B0C89-1699-4A22-A7A5-82978916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5C62-85D2-4027-890B-1DE1F893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37AC0-4F6B-4D2B-9296-3FFECC69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F230-914F-4E8E-BC51-3B1EE38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46A-F7DF-405F-9FE1-00D62687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C9BEA-F897-4615-993D-63DC31D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EF915-CF64-4F8B-9458-E23449A3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BDA10-DF18-46A0-8902-4FF2BC2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30A2A-3008-4112-8AF8-E5EBE18F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D04A-9810-4F61-B491-9BE4D4F0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05233-E844-4C28-A007-89D93793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25EA-B4BF-44DB-8D67-981F33E0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6F95-7BAD-4493-84AC-633649A2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FA93-66A7-4B53-8927-EF5FCB1E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EDEA8-7F59-4E25-85B4-97091E9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458-4232-4D10-B03B-66717826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2B789-4675-46FC-8663-68B8ACC4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3C983-B8A8-4CFA-9AB6-7546D73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28A34-22BE-4B88-BDF9-93AA011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65C4-89B7-4879-B6CB-5175F2B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463CD-5F2D-4A0E-907E-1FF81FE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535CA-D876-435E-A3B6-DCC1AC02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E646-859A-4AC8-A8E5-05A6F1C0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4EBA3-0359-4781-8BD4-6D6C9D81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2943C-EBC6-494D-8D1A-B5DF2370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D1372-968E-49DE-BC16-78718EE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A753-97DA-4C40-9ADD-82DB782753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71EC-D3E7-468F-AC23-90752EAB1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47F-F377-4655-AA27-8F7DD7FBAA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9AD6-AA8D-4B11-A385-E5516707D3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A73-6DCA-460D-AB60-CF99140B8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06A8-A211-4AF2-93E1-40CC4520B7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80C6-D494-40DD-AA58-DA70EEB855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335-E93C-47F4-9231-8C10017B0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7FE1-EBDF-4487-ADD8-3BEC7E73E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3C2E-8656-4BCE-88F8-482967340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76AC-C05C-4F7C-89B2-07739A2E80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E5EB-057C-49FB-95B0-6CF4FAA1E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3FCF-E08B-4457-9B8A-6D02E8201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A7C5-3066-49DA-8FF2-C9A7D50C58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1FE-3015-4226-9551-B005A1154A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F24-407E-4629-9BB4-ABDBE4B40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3CB0-62F4-4408-983B-CF3096BB17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C686-09F0-4E99-9FA1-4209EF69EA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8755-76F3-4CDF-8373-B510472AB1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BE1D-D0FE-43B5-8B39-BE57EBD03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5EF-D0A4-4E44-8B94-62B2B61A79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1A9C-AF5B-4152-AF0A-95F64ABBF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B05-5E7B-4FF4-B783-3DBF01A20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53F-E409-48D4-B890-01D5C6025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F925-BE98-4C77-B6E6-ABCA3E02B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2F6B-3E34-421D-BC73-79A47B5B1D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C80A-2FAC-49D7-92AD-506067BF2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705E-2591-4026-9D90-2A23DCD87C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1C31-CDDE-4350-BD26-CF2D6C5D3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E58D-FD3D-4FC0-BB8C-3F5E95A66B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75BD-9457-488A-90D3-F5EEC73A62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5F82-9139-48D1-AC61-D1020A19AA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7394-7700-4CC4-9C1E-34EEF38A1C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25D-C686-4E6A-A01D-0CC051EA0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FE66-B1E9-4396-8F34-46EDB9945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872-253A-4646-9DB9-6A3C8F8545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B575-9DBD-430D-A002-BF30EFCB26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08D-769A-4B0F-8756-5628E9F8A3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EB4-2BDE-4CE4-8068-02242EE8F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478F-FC4E-424F-93B7-1A182742A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6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09640" y="2948040"/>
            <a:ext cx="57247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1109520" y="1623960"/>
            <a:ext cx="6924960" cy="3610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662616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1258920" y="2205000"/>
            <a:ext cx="6626160" cy="86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1332000" y="3213000"/>
            <a:ext cx="6626160" cy="86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1403280" y="4192560"/>
            <a:ext cx="662616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1332000" y="4724280"/>
            <a:ext cx="66261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8609" descr=""/>
          <p:cNvPicPr/>
          <p:nvPr/>
        </p:nvPicPr>
        <p:blipFill>
          <a:blip r:embed="rId1"/>
          <a:stretch/>
        </p:blipFill>
        <p:spPr>
          <a:xfrm>
            <a:off x="604800" y="1847880"/>
            <a:ext cx="7934400" cy="3162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0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7585" descr=""/>
          <p:cNvPicPr/>
          <p:nvPr/>
        </p:nvPicPr>
        <p:blipFill>
          <a:blip r:embed="rId1"/>
          <a:stretch/>
        </p:blipFill>
        <p:spPr>
          <a:xfrm>
            <a:off x="485640" y="1052640"/>
            <a:ext cx="8172720" cy="220968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7586" descr=""/>
          <p:cNvPicPr/>
          <p:nvPr/>
        </p:nvPicPr>
        <p:blipFill>
          <a:blip r:embed="rId2"/>
          <a:stretch/>
        </p:blipFill>
        <p:spPr>
          <a:xfrm>
            <a:off x="1143000" y="3456000"/>
            <a:ext cx="6858000" cy="2133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557600" y="1413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8129520" y="126828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183200" y="213372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8101080" y="21477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700360" y="371628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7380360" y="376092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2916360" y="459576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7380360" y="4653000"/>
            <a:ext cx="934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66560" y="714240"/>
            <a:ext cx="8210880" cy="5429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659640" y="292428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700200" y="1900080"/>
            <a:ext cx="7743600" cy="305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6443640" y="1989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8373" descr=""/>
          <p:cNvPicPr/>
          <p:nvPr/>
        </p:nvPicPr>
        <p:blipFill>
          <a:blip r:embed="rId1"/>
          <a:stretch/>
        </p:blipFill>
        <p:spPr>
          <a:xfrm>
            <a:off x="538200" y="1252440"/>
            <a:ext cx="8067600" cy="4353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7352" descr=""/>
          <p:cNvPicPr/>
          <p:nvPr/>
        </p:nvPicPr>
        <p:blipFill>
          <a:blip r:embed="rId1"/>
          <a:stretch/>
        </p:blipFill>
        <p:spPr>
          <a:xfrm>
            <a:off x="257040" y="1457280"/>
            <a:ext cx="8629920" cy="3943440"/>
          </a:xfrm>
          <a:prstGeom prst="rect">
            <a:avLst/>
          </a:prstGeom>
          <a:ln w="0">
            <a:noFill/>
          </a:ln>
        </p:spPr>
      </p:pic>
      <p:grpSp>
        <p:nvGrpSpPr>
          <p:cNvPr id="929" name="组合 57358"/>
          <p:cNvGrpSpPr/>
          <p:nvPr/>
        </p:nvGrpSpPr>
        <p:grpSpPr>
          <a:xfrm>
            <a:off x="257040" y="2003400"/>
            <a:ext cx="1800360" cy="3586320"/>
            <a:chOff x="257040" y="2003400"/>
            <a:chExt cx="1800360" cy="3586320"/>
          </a:xfrm>
        </p:grpSpPr>
        <p:pic>
          <p:nvPicPr>
            <p:cNvPr id="930" name="图片 57353" descr=""/>
            <p:cNvPicPr/>
            <p:nvPr/>
          </p:nvPicPr>
          <p:blipFill>
            <a:blip r:embed="rId2"/>
            <a:stretch/>
          </p:blipFill>
          <p:spPr>
            <a:xfrm>
              <a:off x="257040" y="2362320"/>
              <a:ext cx="1800360" cy="25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1" descr=""/>
            <p:cNvPicPr/>
            <p:nvPr/>
          </p:nvPicPr>
          <p:blipFill>
            <a:blip r:embed="rId3"/>
            <a:stretch/>
          </p:blipFill>
          <p:spPr>
            <a:xfrm>
              <a:off x="971640" y="2003400"/>
              <a:ext cx="57600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1" descr=""/>
            <p:cNvPicPr/>
            <p:nvPr/>
          </p:nvPicPr>
          <p:blipFill>
            <a:blip r:embed="rId4"/>
            <a:stretch/>
          </p:blipFill>
          <p:spPr>
            <a:xfrm>
              <a:off x="971640" y="4724280"/>
              <a:ext cx="576000" cy="86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组合 57361"/>
          <p:cNvGrpSpPr/>
          <p:nvPr/>
        </p:nvGrpSpPr>
        <p:grpSpPr>
          <a:xfrm>
            <a:off x="2354400" y="2549520"/>
            <a:ext cx="3441600" cy="2552760"/>
            <a:chOff x="2354400" y="2549520"/>
            <a:chExt cx="3441600" cy="2552760"/>
          </a:xfrm>
        </p:grpSpPr>
        <p:pic>
          <p:nvPicPr>
            <p:cNvPr id="934" name="图片 57354" descr=""/>
            <p:cNvPicPr/>
            <p:nvPr/>
          </p:nvPicPr>
          <p:blipFill>
            <a:blip r:embed="rId5"/>
            <a:stretch/>
          </p:blipFill>
          <p:spPr>
            <a:xfrm>
              <a:off x="2506680" y="2549520"/>
              <a:ext cx="2771640" cy="25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1" descr=""/>
            <p:cNvPicPr/>
            <p:nvPr/>
          </p:nvPicPr>
          <p:blipFill>
            <a:blip r:embed="rId6"/>
            <a:stretch/>
          </p:blipFill>
          <p:spPr>
            <a:xfrm>
              <a:off x="2354400" y="3573360"/>
              <a:ext cx="28728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1" descr=""/>
            <p:cNvPicPr/>
            <p:nvPr/>
          </p:nvPicPr>
          <p:blipFill>
            <a:blip r:embed="rId7"/>
            <a:stretch/>
          </p:blipFill>
          <p:spPr>
            <a:xfrm>
              <a:off x="5234040" y="3573360"/>
              <a:ext cx="56196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7" name="组合 57366"/>
          <p:cNvGrpSpPr/>
          <p:nvPr/>
        </p:nvGrpSpPr>
        <p:grpSpPr>
          <a:xfrm>
            <a:off x="5867280" y="2841480"/>
            <a:ext cx="2881440" cy="2257560"/>
            <a:chOff x="5867280" y="2841480"/>
            <a:chExt cx="2881440" cy="2257560"/>
          </a:xfrm>
        </p:grpSpPr>
        <p:pic>
          <p:nvPicPr>
            <p:cNvPr id="938" name="图片 57355" descr=""/>
            <p:cNvPicPr/>
            <p:nvPr/>
          </p:nvPicPr>
          <p:blipFill>
            <a:blip r:embed="rId8"/>
            <a:stretch/>
          </p:blipFill>
          <p:spPr>
            <a:xfrm>
              <a:off x="6242040" y="2841480"/>
              <a:ext cx="20955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1" descr=""/>
            <p:cNvPicPr/>
            <p:nvPr/>
          </p:nvPicPr>
          <p:blipFill>
            <a:blip r:embed="rId9"/>
            <a:stretch/>
          </p:blipFill>
          <p:spPr>
            <a:xfrm>
              <a:off x="5867280" y="2924280"/>
              <a:ext cx="5763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Picture 1" descr=""/>
            <p:cNvPicPr/>
            <p:nvPr/>
          </p:nvPicPr>
          <p:blipFill>
            <a:blip r:embed="rId10"/>
            <a:stretch/>
          </p:blipFill>
          <p:spPr>
            <a:xfrm>
              <a:off x="5867280" y="4365720"/>
              <a:ext cx="5763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1" descr=""/>
            <p:cNvPicPr/>
            <p:nvPr/>
          </p:nvPicPr>
          <p:blipFill>
            <a:blip r:embed="rId11"/>
            <a:stretch/>
          </p:blipFill>
          <p:spPr>
            <a:xfrm>
              <a:off x="8172360" y="2997360"/>
              <a:ext cx="5763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1" descr=""/>
            <p:cNvPicPr/>
            <p:nvPr/>
          </p:nvPicPr>
          <p:blipFill>
            <a:blip r:embed="rId12"/>
            <a:stretch/>
          </p:blipFill>
          <p:spPr>
            <a:xfrm>
              <a:off x="8172360" y="4235400"/>
              <a:ext cx="576360" cy="49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523800" y="1262160"/>
            <a:ext cx="8096400" cy="433368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6325" descr=""/>
          <p:cNvPicPr/>
          <p:nvPr/>
        </p:nvPicPr>
        <p:blipFill>
          <a:blip r:embed="rId2"/>
          <a:stretch/>
        </p:blipFill>
        <p:spPr>
          <a:xfrm>
            <a:off x="1278000" y="2306520"/>
            <a:ext cx="71247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62080" y="1338120"/>
            <a:ext cx="8619840" cy="418176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5301" descr=""/>
          <p:cNvPicPr/>
          <p:nvPr/>
        </p:nvPicPr>
        <p:blipFill>
          <a:blip r:embed="rId2"/>
          <a:stretch/>
        </p:blipFill>
        <p:spPr>
          <a:xfrm>
            <a:off x="985680" y="2106720"/>
            <a:ext cx="77630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547560" y="1552680"/>
            <a:ext cx="8048880" cy="3752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627280" y="479736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372360" y="4753080"/>
            <a:ext cx="122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276120" y="773280"/>
            <a:ext cx="85917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7:1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